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Максимова В В" initials="МВВ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<Relationship Id="rId45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17-03-30T14:27:16.171000000" idx="1">
    <p:pos x="5760" y="799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FD91-0C97-4278-B1A5-8FB620453A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E5E7-D0D5-4103-856C-87BA920083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 вид МПК на сайте ВО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8D57-721B-4D3A-BEF0-1C9F14316B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МПК на сайте ФИ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3EF8-156F-4D31-AC5A-80CDAE0466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0" y="43434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атентная документация, с одной стороны, является правовой документацией. С этой точки зрения важны сведения о заявителе, правообладателе, правовом статусе (действует – не действует), сроках начала действия патента и прекращения его действия, странах, в которых он дей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другой стороны, патент по определению содержи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науч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техническую информацию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разных целей при поисках бывает важна та или иная его сторона. И всё же в первую очередь большую часть пользователей интересует возможность поиска технической информации, содержащейся в патентных документах. И только потом, для конкретных найденных патентов ведутся поиски их правового стат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этому со времен зарождения патентных фондов встал вопрос о возможности объединения патентных документов по их технической общности, т.е. вопрос их классификации по технической сущности. Уже в конце 19 века первые подобные системы зародились в Германии, Нидерландах, Великобритании и США. Чуть позже - в Бельгии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 времена бумажных фондов поисковые возможности пользователей были ограничены возможностями, предоставляемыми расстановкой документов в фонде и их каталогизацией. Практически это была возможность поиска только по библиографическим данным (страна, номера заявок, патентов, даты, название, правообладатель и индекс классификации). Поэтому при поиске технической сущности классификация играла основную 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A669-2076-42B5-8365-9324E5A786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ABEF-2186-4EE5-9FE3-E7DF1B64D0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0" y="43430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настоящее время вся мировая патентная документация переведена в электронный вид и доступна для поиска в многочисленных электронных базах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ые возможности поиска на первых порах, да нередко и сейчас, соблазняют возможностью поиска по словам в текстах док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ловек, ищущий документы по какой-либо сформулированной им теме, или эксперт, рассматривающий конкретную заявку, в начале поиска даже не предполагает, что данная тема или данное техническое решение могут быть описаны не теми словами, которые он подобрал для поиска. Однако опыт показывает противоположную картину: одно и то же техническое решение разными людьми описывается с помощью разных терм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ие изобретатели изобретают не только устройства и способы, но и свои термины для их описания тоже. Кроме того, существует и профессиональные термины, причем даже в разных организациях одной отрасли часто используются разные профессиональные термины для одинаковых понятий. Что уж говорить о разных отраслях и, тем более, разных странах. Плюс разнообразие, вносимое словарями и переводчиками. Кроме того, очень сложно описывать чисто конструктивные решения («отверстие вверху левой стенки справа от прорез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устройства для разделения материалов, добытых из скважины при добыче нефтепродуктов» (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E21B 43/34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. Детали или принадлежности больших контейнеров - размещение на них устройств для индикации или измерения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65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90/48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Разделение несмешивающихся жидкостей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B01D 17/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D540-0CD6-4EEE-AF10-08A4923D02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35/0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«устройства для отверждения волновой энергией или облучением частицами.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29C </a:t>
            </a:r>
            <a:r>
              <a:rPr b="1" lang="ru-RU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-;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формование веществ в пластическом состоянии, …; последующая обработка формованны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0D67-F7EC-47E1-9B65-56DFDC27B2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213840" y="4343040"/>
            <a:ext cx="66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ечно, для проведения поиска можно и нужно подбирать все возможные синонимы для всех терминов, которые Вы считаете важными, причем и на русском, и на английском языках. Но из приведенных примеров видно, что для поиска патентов, сходных по технической сущности, без дополнительных инструментов поиска не обойт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им инструментом поиска являются патентные классифик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ыт показывает, что сколько авторов таких систем, столько и самих сис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мере роста международной торговли, зарубежного патентования и обмена информацией наличие множества разных систем патентной классификации стало вызывать определенные трудности. Приходилось для патентных документов каждой страны изучать и их национальную классифика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выми сумели преодолеть эту разобщенность европейцы. Уже в начале 20 века – первые попытки создания общеевропейской классификации. А в 1950-х годах была разработана европейская международная классификация техники в основном на базе голландской и немецкой классификаций. Независимо от этого в 1968 г была опубликована первая редакция Международной патентной классификации (МПК ил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PC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. Через 23 года, к 1991г, европейцы сумели совместить свою классификацию (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CLA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 с международной, оставив свою более дробной, чем МПК. На основе этой европейской классификации с 2010 по 2013г совместно с США была создана самая современная классификация – СРС (совместная патентная классификация ил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operative patent classification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08EF-1569-490E-9BBC-8DC1AAAE52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B6FA-2E68-4D8C-81C6-D859862B4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12A-7DBA-4DAB-B12C-97B017B4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74F-F929-421E-A80D-AC8BE037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34B-6BA4-46E1-B88D-4C58B2EB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5F4-C52F-4030-9E6A-76CB2E78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3641-D0C2-40C9-904F-F3F8D617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8212-4440-432F-AC5C-281542AD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B385-FE53-4501-8FAC-BD8D941D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C7EF-BD25-438D-A940-334110E1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DA2E-E176-4A47-A0B4-1FD8F14E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48CF-25CC-4BA9-A4CA-497C18DE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CF78-0D85-4635-9806-98789A2D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EFB-519F-4417-8365-F3506BCF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ADBA-7A61-4B05-BCD2-95C8C6F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BC25-14FB-4194-9077-90FE40C1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7E26-0358-4ABD-942D-A180DB5A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8EDE-9893-4250-A352-F5DCC492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6E90-ABF1-49AD-A5EB-7B157FF9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4C1D8-CF2A-42D9-BCA7-5A4B736D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F0BA-3B40-456C-9C4E-22D059BA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63F0-2A66-4A55-8BDB-59A14FB7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73D16-AB78-4F97-B15C-0C39A28A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FDF04-C887-44CB-88D4-F4BA66D6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EE7-FA6E-47B4-814D-9EF38F65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BCD5B-120F-4221-9E5E-BB423BDB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D540-2A25-4A73-91D0-F3CA9852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A3D57-50A1-4319-B0E1-DE898857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DD9B9-9A9F-4BDD-A93F-8E8536E7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98E69-F49A-445F-A25C-E98A1E2A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2EB74-884A-409B-A5F5-1B4F2F52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A1C53-9EC4-4DE5-833C-8A29C86C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14B31-42C7-4E57-BCCD-C759B1D1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51DC4-7E36-4265-82FE-4778DC7E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FF4C7-83DF-4580-8EF7-BE48BB2E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492-19AB-4ACD-8AC6-D67A5028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A5113-DB0C-4397-9FBF-62273549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63B15-3BE7-45D2-92DB-28738247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CAA7D-3A45-4695-9B2A-6C155980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994B6-CFCB-4BD6-83E7-68E6DE07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E968C-00A9-4A90-ABDD-A4B4BD6A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7CF6A-B181-4754-B729-E5D2EFB7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DECE8-0515-435E-8417-F87A9A9F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32015-FB6C-457F-878A-8E1E9744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2B97B-5BCB-43AA-8807-32226B94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889-594D-4B50-920C-EF2D0F16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6508-4371-4579-98A3-644AF9EA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7BD-4778-4848-A306-A0403AFA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95F-58CD-4BB9-899D-9B40AFAE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76E1-7505-463B-BD72-EFA9FECD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57E8-77F9-48A4-8C1A-483EB7CA1C75}" type="datetime">
              <a:rPr b="0" lang="ru-RU" sz="1200" spc="-1" strike="noStrike">
                <a:solidFill>
                  <a:srgbClr val="898989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9CCA-4C56-4472-98A0-5F38CB032387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D0A3-29D2-497D-AFAD-2994EF71BFE5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D136-FF7F-464A-A832-7B70EDAEB6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1785960" y="0"/>
            <a:ext cx="5329080" cy="73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4"/>
          <a:stretch/>
        </p:blipFill>
        <p:spPr>
          <a:xfrm>
            <a:off x="7072200" y="0"/>
            <a:ext cx="2071800" cy="738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050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EF90-235A-4A48-8DE1-7BFF11E7E58D}" type="datetime">
              <a:rPr b="0" lang="ru-RU" sz="1200" spc="-1" strike="noStrike">
                <a:solidFill>
                  <a:srgbClr val="c0504d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5786280"/>
            <a:ext cx="28958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B4FC-8AA9-4C00-9C18-4F968E022D3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0FC4-86EE-4896-87A7-FE155770201A}" type="datetime">
              <a:rPr b="0" lang="ru-RU" sz="1200" spc="-1" strike="noStrike">
                <a:solidFill>
                  <a:srgbClr val="898989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D469-CD53-49BC-98C4-557EB62288F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1.fips.ru/wps/portal/IPC/IPC2016_extended_XML/?xml=http://www1.fips.ru/IPC2016_extended_XML/AIpc-20160101_subclass-F_XML%5CAIpc20160101-F16K.xml" TargetMode="External"/><Relationship Id="rId2" Type="http://schemas.openxmlformats.org/officeDocument/2006/relationships/hyperlink" Target="http://www1.fips.ru/wps/portal/IPC/IPC2016_extended_XML/?xml=http://www1.fips.ru/IPC2016_extended_XML/AIpc-20160101_subclass-A_XML%5CAIpc20160101-A61F.xml" TargetMode="External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comments" Target="../comments/commen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eb2.wipo.int/classifications/ipc/ipcpub" TargetMode="External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91440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2804"/>
                </a:solidFill>
                <a:latin typeface="Arial"/>
                <a:ea typeface="Arial"/>
              </a:rPr>
              <a:t>Использование патентной классификации для поиска</a:t>
            </a:r>
            <a:br>
              <a:rPr sz="4000"/>
            </a:br>
            <a:r>
              <a:rPr b="1" lang="ru-RU" sz="4000" spc="-1" strike="noStrike">
                <a:solidFill>
                  <a:srgbClr val="542804"/>
                </a:solidFill>
                <a:latin typeface="Arial"/>
                <a:ea typeface="Arial"/>
              </a:rPr>
              <a:t>на примере Международной патентной классификации (МПК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0" y="3714480"/>
            <a:ext cx="91440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Семинар по поиску в патентных базах данных и развитию Центров Поддержки Технологий и Инноваций (ЦПТИ) в Республике Узбекист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2804"/>
                </a:solidFill>
                <a:latin typeface="Arial"/>
                <a:ea typeface="Arial"/>
              </a:rPr>
              <a:t>Ташкент 26-27 марта 2019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Arial"/>
              </a:rPr>
              <a:t>С.н.с.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 32 ФИПС 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         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984807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984807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. </a:t>
            </a:r>
            <a:r>
              <a:rPr b="0" lang="ru-RU" sz="2400" spc="-1" strike="noStrike">
                <a:solidFill>
                  <a:srgbClr val="984807"/>
                </a:solidFill>
                <a:latin typeface="Arial"/>
              </a:rPr>
              <a:t>Войцеховск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    </a:t>
            </a:r>
            <a:r>
              <a:rPr b="0" lang="ru-RU" sz="1000" spc="-1" strike="noStrike">
                <a:solidFill>
                  <a:srgbClr val="984807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84807"/>
                </a:solidFill>
                <a:latin typeface="Verdana"/>
              </a:rPr>
              <a:t>orpos@rupto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Структура МПК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МПК состоит из Руководства к МПК, Схемы (перечень рубрик) и Определений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Иерархическое  построение Схемы МПК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я – самые детальные руководства по МПК в каждой конкретной облас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римечания и отсылки в Схеме и Определения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ересмотры МПК. Указатели версий как возможность прослеживания изменений в МП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Руководство к МПК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uide to the IPC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6766-CFBA-4185-A9F0-6FFBAB4282ED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comic"/>
              </a:rPr>
              <a:t>Иерархическая структура МПК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0283-E465-4934-979B-D2F1D234561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Diagram 3"/>
          <p:cNvGrpSpPr/>
          <p:nvPr/>
        </p:nvGrpSpPr>
        <p:grpSpPr>
          <a:xfrm>
            <a:off x="2179800" y="1627920"/>
            <a:ext cx="4786920" cy="5100120"/>
            <a:chOff x="2179800" y="1627920"/>
            <a:chExt cx="4786920" cy="5100120"/>
          </a:xfrm>
        </p:grpSpPr>
        <p:sp>
          <p:nvSpPr>
            <p:cNvPr id="208" name="_s1028"/>
            <p:cNvSpPr/>
            <p:nvPr/>
          </p:nvSpPr>
          <p:spPr>
            <a:xfrm flipH="1" flipV="1">
              <a:off x="3867840" y="2358720"/>
              <a:ext cx="603000" cy="15501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029"/>
            <p:cNvSpPr/>
            <p:nvPr/>
          </p:nvSpPr>
          <p:spPr>
            <a:xfrm>
              <a:off x="3485520" y="180036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30"/>
            <p:cNvSpPr/>
            <p:nvPr/>
          </p:nvSpPr>
          <p:spPr>
            <a:xfrm flipH="1" flipV="1">
              <a:off x="3268080" y="2784960"/>
              <a:ext cx="1114560" cy="11854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031"/>
            <p:cNvSpPr/>
            <p:nvPr/>
          </p:nvSpPr>
          <p:spPr>
            <a:xfrm>
              <a:off x="2799000" y="229104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2"/>
            <p:cNvSpPr/>
            <p:nvPr/>
          </p:nvSpPr>
          <p:spPr>
            <a:xfrm flipH="1" flipV="1">
              <a:off x="2867760" y="3422160"/>
              <a:ext cx="1455120" cy="6426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033"/>
            <p:cNvSpPr/>
            <p:nvPr/>
          </p:nvSpPr>
          <p:spPr>
            <a:xfrm>
              <a:off x="2340720" y="302400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4"/>
            <p:cNvSpPr/>
            <p:nvPr/>
          </p:nvSpPr>
          <p:spPr>
            <a:xfrm flipH="1">
              <a:off x="2726280" y="4176000"/>
              <a:ext cx="157500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5"/>
            <p:cNvSpPr/>
            <p:nvPr/>
          </p:nvSpPr>
          <p:spPr>
            <a:xfrm>
              <a:off x="2179800" y="388836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6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1036"/>
            <p:cNvSpPr/>
            <p:nvPr/>
          </p:nvSpPr>
          <p:spPr>
            <a:xfrm flipH="1">
              <a:off x="2867760" y="4286520"/>
              <a:ext cx="1455120" cy="6426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37"/>
            <p:cNvSpPr/>
            <p:nvPr/>
          </p:nvSpPr>
          <p:spPr>
            <a:xfrm>
              <a:off x="2342160" y="475272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38"/>
            <p:cNvSpPr/>
            <p:nvPr/>
          </p:nvSpPr>
          <p:spPr>
            <a:xfrm flipH="1">
              <a:off x="3268080" y="4380840"/>
              <a:ext cx="1113120" cy="11854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9"/>
            <p:cNvSpPr/>
            <p:nvPr/>
          </p:nvSpPr>
          <p:spPr>
            <a:xfrm>
              <a:off x="2802600" y="548604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40"/>
            <p:cNvSpPr/>
            <p:nvPr/>
          </p:nvSpPr>
          <p:spPr>
            <a:xfrm flipH="1">
              <a:off x="3865680" y="4442760"/>
              <a:ext cx="603000" cy="15501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41"/>
            <p:cNvSpPr/>
            <p:nvPr/>
          </p:nvSpPr>
          <p:spPr>
            <a:xfrm>
              <a:off x="3490560" y="597420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42"/>
            <p:cNvSpPr/>
            <p:nvPr/>
          </p:nvSpPr>
          <p:spPr>
            <a:xfrm>
              <a:off x="4571640" y="4465080"/>
              <a:ext cx="1440" cy="16779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43"/>
            <p:cNvSpPr/>
            <p:nvPr/>
          </p:nvSpPr>
          <p:spPr>
            <a:xfrm>
              <a:off x="4301640" y="614556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44"/>
            <p:cNvSpPr/>
            <p:nvPr/>
          </p:nvSpPr>
          <p:spPr>
            <a:xfrm>
              <a:off x="4677840" y="4442760"/>
              <a:ext cx="600840" cy="15523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45"/>
            <p:cNvSpPr/>
            <p:nvPr/>
          </p:nvSpPr>
          <p:spPr>
            <a:xfrm>
              <a:off x="5113440" y="597276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46"/>
            <p:cNvSpPr/>
            <p:nvPr/>
          </p:nvSpPr>
          <p:spPr>
            <a:xfrm>
              <a:off x="4765680" y="4380840"/>
              <a:ext cx="1113120" cy="11876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47"/>
            <p:cNvSpPr/>
            <p:nvPr/>
          </p:nvSpPr>
          <p:spPr>
            <a:xfrm>
              <a:off x="5801400" y="548208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48"/>
            <p:cNvSpPr/>
            <p:nvPr/>
          </p:nvSpPr>
          <p:spPr>
            <a:xfrm>
              <a:off x="4824360" y="4286520"/>
              <a:ext cx="1455120" cy="6447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49"/>
            <p:cNvSpPr/>
            <p:nvPr/>
          </p:nvSpPr>
          <p:spPr>
            <a:xfrm>
              <a:off x="6259680" y="474912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50"/>
            <p:cNvSpPr/>
            <p:nvPr/>
          </p:nvSpPr>
          <p:spPr>
            <a:xfrm>
              <a:off x="4844880" y="4176000"/>
              <a:ext cx="1575000" cy="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51"/>
            <p:cNvSpPr/>
            <p:nvPr/>
          </p:nvSpPr>
          <p:spPr>
            <a:xfrm>
              <a:off x="6420240" y="388476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52"/>
            <p:cNvSpPr/>
            <p:nvPr/>
          </p:nvSpPr>
          <p:spPr>
            <a:xfrm flipV="1">
              <a:off x="4824360" y="3423960"/>
              <a:ext cx="1455120" cy="640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53"/>
            <p:cNvSpPr/>
            <p:nvPr/>
          </p:nvSpPr>
          <p:spPr>
            <a:xfrm>
              <a:off x="6258240" y="302004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54"/>
            <p:cNvSpPr/>
            <p:nvPr/>
          </p:nvSpPr>
          <p:spPr>
            <a:xfrm flipV="1">
              <a:off x="4764240" y="2784960"/>
              <a:ext cx="1114560" cy="11854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55"/>
            <p:cNvSpPr/>
            <p:nvPr/>
          </p:nvSpPr>
          <p:spPr>
            <a:xfrm>
              <a:off x="5797800" y="228708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56"/>
            <p:cNvSpPr/>
            <p:nvPr/>
          </p:nvSpPr>
          <p:spPr>
            <a:xfrm flipV="1">
              <a:off x="4675680" y="2358720"/>
              <a:ext cx="603000" cy="15501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57"/>
            <p:cNvSpPr/>
            <p:nvPr/>
          </p:nvSpPr>
          <p:spPr>
            <a:xfrm>
              <a:off x="5109840" y="179856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ff"/>
                  </a:solidFill>
                  <a:latin typeface="Arial"/>
                </a:rPr>
                <a:t>A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58"/>
            <p:cNvSpPr/>
            <p:nvPr/>
          </p:nvSpPr>
          <p:spPr>
            <a:xfrm flipV="1">
              <a:off x="4571640" y="2210400"/>
              <a:ext cx="0" cy="16776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59"/>
            <p:cNvSpPr/>
            <p:nvPr/>
          </p:nvSpPr>
          <p:spPr>
            <a:xfrm>
              <a:off x="4298040" y="1627920"/>
              <a:ext cx="546480" cy="58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A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60"/>
            <p:cNvSpPr/>
            <p:nvPr/>
          </p:nvSpPr>
          <p:spPr>
            <a:xfrm>
              <a:off x="4298040" y="3888360"/>
              <a:ext cx="546480" cy="582480"/>
            </a:xfrm>
            <a:prstGeom prst="ellipse">
              <a:avLst/>
            </a:prstGeom>
            <a:solidFill>
              <a:srgbClr val="bb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Прямоугольник 5"/>
          <p:cNvSpPr/>
          <p:nvPr/>
        </p:nvSpPr>
        <p:spPr>
          <a:xfrm>
            <a:off x="285840" y="1285920"/>
            <a:ext cx="2714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ребност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6"/>
          <p:cNvSpPr/>
          <p:nvPr/>
        </p:nvSpPr>
        <p:spPr>
          <a:xfrm>
            <a:off x="6500880" y="607212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A01 – A63 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Иерархия схемы МПК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делы – 8: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C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e46c0a"/>
                </a:solidFill>
                <a:latin typeface="Arial"/>
                <a:ea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31859c"/>
                </a:solidFill>
                <a:latin typeface="Arial"/>
                <a:ea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ассы 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13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Например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классы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63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Например, А61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уппы –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7298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D988-71B5-4E9E-9E69-48A4F7BA9407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2160" indent="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             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Arial"/>
              </a:rPr>
              <a:t>        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класс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2160" indent="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2160" indent="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под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2160" indent="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2160" indent="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  <a:ea typeface="Arial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Arial"/>
              </a:rPr>
              <a:t>группы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2160" indent="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2160" indent="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"/>
                <a:ea typeface="Arial"/>
              </a:rPr>
              <a:t>подгрупп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1859c"/>
                </a:solidFill>
                <a:latin typeface="Verdana"/>
              </a:rPr>
              <a:t>Иерархическая структура МПК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8EA9-BB85-4A76-A7F2-D2136BE1E0E2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Diagram 35"/>
          <p:cNvGrpSpPr/>
          <p:nvPr/>
        </p:nvGrpSpPr>
        <p:grpSpPr>
          <a:xfrm>
            <a:off x="3786120" y="2234880"/>
            <a:ext cx="4682880" cy="4029480"/>
            <a:chOff x="3786120" y="2234880"/>
            <a:chExt cx="4682880" cy="4029480"/>
          </a:xfrm>
        </p:grpSpPr>
        <p:sp>
          <p:nvSpPr>
            <p:cNvPr id="250" name="_s2052"/>
            <p:cNvSpPr/>
            <p:nvPr/>
          </p:nvSpPr>
          <p:spPr>
            <a:xfrm flipV="1">
              <a:off x="5542200" y="2234520"/>
              <a:ext cx="1170360" cy="1007640"/>
            </a:xfrm>
            <a:custGeom>
              <a:avLst/>
              <a:gdLst>
                <a:gd name="textAreaLeft" fmla="*/ 419760 w 1170360"/>
                <a:gd name="textAreaRight" fmla="*/ 750600 w 1170360"/>
                <a:gd name="textAreaTop" fmla="*/ 361440 h 1007640"/>
                <a:gd name="textAreaBottom" fmla="*/ 6462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933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53"/>
            <p:cNvSpPr/>
            <p:nvPr/>
          </p:nvSpPr>
          <p:spPr>
            <a:xfrm flipV="1">
              <a:off x="4956480" y="3242520"/>
              <a:ext cx="2341800" cy="1007640"/>
            </a:xfrm>
            <a:custGeom>
              <a:avLst/>
              <a:gdLst>
                <a:gd name="textAreaLeft" fmla="*/ 514800 w 2341800"/>
                <a:gd name="textAreaRight" fmla="*/ 1827000 w 2341800"/>
                <a:gd name="textAreaTop" fmla="*/ 221400 h 1007640"/>
                <a:gd name="textAreaBottom" fmla="*/ 78624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A01B … A01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54"/>
            <p:cNvSpPr/>
            <p:nvPr/>
          </p:nvSpPr>
          <p:spPr>
            <a:xfrm flipV="1">
              <a:off x="4371120" y="4251240"/>
              <a:ext cx="3512520" cy="1005840"/>
            </a:xfrm>
            <a:custGeom>
              <a:avLst/>
              <a:gdLst>
                <a:gd name="textAreaLeft" fmla="*/ 609840 w 3512520"/>
                <a:gd name="textAreaRight" fmla="*/ 2902680 w 3512520"/>
                <a:gd name="textAreaTop" fmla="*/ 174600 h 1005840"/>
                <a:gd name="textAreaBottom" fmla="*/ 831240 h 100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A01B1/00…A01B79/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55"/>
            <p:cNvSpPr/>
            <p:nvPr/>
          </p:nvSpPr>
          <p:spPr>
            <a:xfrm flipV="1">
              <a:off x="3786120" y="5256360"/>
              <a:ext cx="4682880" cy="1007640"/>
            </a:xfrm>
            <a:custGeom>
              <a:avLst/>
              <a:gdLst>
                <a:gd name="textAreaLeft" fmla="*/ 704520 w 4682880"/>
                <a:gd name="textAreaRight" fmla="*/ 3978360 w 4682880"/>
                <a:gd name="textAreaTop" fmla="*/ 151560 h 1007640"/>
                <a:gd name="textAreaBottom" fmla="*/ 85608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cc66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A01B1/02 …A01B1/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4" name="Прямая со стрелкой 8"/>
          <p:cNvCxnSpPr/>
          <p:nvPr/>
        </p:nvCxnSpPr>
        <p:spPr>
          <a:xfrm flipH="1" flipV="1">
            <a:off x="3928680" y="3428640"/>
            <a:ext cx="1572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Прямая со стрелкой 10"/>
          <p:cNvCxnSpPr/>
          <p:nvPr/>
        </p:nvCxnSpPr>
        <p:spPr>
          <a:xfrm flipH="1" flipV="1">
            <a:off x="3071160" y="4500360"/>
            <a:ext cx="17866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Прямая со стрелкой 15"/>
          <p:cNvCxnSpPr/>
          <p:nvPr/>
        </p:nvCxnSpPr>
        <p:spPr>
          <a:xfrm flipH="1" flipV="1">
            <a:off x="4642920" y="2356560"/>
            <a:ext cx="1501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Прямая со стрелкой 17"/>
          <p:cNvCxnSpPr/>
          <p:nvPr/>
        </p:nvCxnSpPr>
        <p:spPr>
          <a:xfrm flipH="1" flipV="1">
            <a:off x="2999520" y="550044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  <a:ea typeface="Arial"/>
              </a:rPr>
              <a:t>Иерархия подгрупп указывается числом точек, стоящих перед  текстами (заголовками) подгрупп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A43B 1/00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вь, характеризуемая материалом (слоист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делия B 32B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A43B 1/02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вь из волокон животного и растительн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схождения или выработанных из них ткане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A43B 1/04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.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етеная, трикотажная, вязаная крючком или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иц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Verdana"/>
              </a:rPr>
              <a:t>Подчиненность в группе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4CFF-B636-4E21-AA29-CB5533FAB8EF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Раздел, подразделы и класс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4CE3-60CB-4103-92B6-1FA204C362A8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7156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f497d"/>
                </a:solidFill>
                <a:latin typeface="Arial"/>
                <a:ea typeface="Arial"/>
              </a:rPr>
              <a:t>Подклассы, группы и подгруппы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FB2F-C0AC-436C-9892-21893801016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571680" y="1268280"/>
            <a:ext cx="778644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Индексирующие схем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а МПК с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гибридной систем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А61К или B23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2B1A-B506-4B58-B4A3-68399299F42F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642960" y="1928880"/>
            <a:ext cx="8001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1f497d"/>
                </a:solidFill>
                <a:latin typeface="Arial Narrow"/>
                <a:ea typeface="Arial"/>
              </a:rPr>
              <a:t>Некоторые аспекты классифицирования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обретательская и дополнительная информ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енное и многоаспектное классифиц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е ведущие ведомства (в том числе Роспатент) классифицируют патентные документы по полной Схеме (по всем группам, включая все подгрупп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большие ведомства – либо по основным группам, либо  - по подкласс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ись индексов МПК на документа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5032-C4A7-44CF-AA10-AC3F7BD05B12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tretch/>
        </p:blipFill>
        <p:spPr>
          <a:xfrm>
            <a:off x="1643040" y="4786200"/>
            <a:ext cx="69296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Arial Narrow"/>
              </a:rPr>
              <a:t>Два типа подразделений в МПК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ьно – ориентированные подразделения (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07 – органические подразделения «вообще»,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B01D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– фильтры «вообще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риентированные по применению (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птические фильтры, фильтры для очистки воды, электронны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тносительность такого де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ример: Е03С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16K</a:t>
            </a:r>
            <a:br>
              <a:rPr sz="30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E03C 1/04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     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.водопроводное оборудование для умывальников и ванн (краны, краны-смесители  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F 16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30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E03C 1/04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     ...вентили, краны для уборных или ванн, прикрепляемые к сте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F16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Клапаны; краны; задвижки; …. 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54 отсылки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.ч.  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A 61F 2/2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 Сердечные клапан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10D9-A4CC-48DE-8315-A721D6CABFB3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оиск патентной информ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оиск - основа как экспертизы, так и всех патентных исследован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ва основных аспекта патентной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авовой аспек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учно-технический аспек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Более 95 млн. патентных докумен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10 лет ежегодно добавляется по 1 млн. докумен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Возникновение патентных классификац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нец 19 века – Германия, Нидерланды, Великобритания, США и Бельг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DC88-82E5-44F3-A020-DAC90E0833E1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Вспомогательные инструменты  в МП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1C18-7C92-4C95-A569-15224EE25361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206280" y="1268280"/>
            <a:ext cx="873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Verdana"/>
              </a:rPr>
              <a:t>Структура Определени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A3F9-B7EB-41D5-8653-73ECA956E561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0" y="1000080"/>
            <a:ext cx="8929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Verdana"/>
              </a:rPr>
              <a:t>Вспомогательные инструменты  в МПК на сайте ФИП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C94F-8D6E-4443-A843-A2A2071A9F5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572680" cy="2857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500040" y="3676680"/>
            <a:ext cx="83725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Отсылки к БД и классификация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C434-8A32-4738-81DE-40C5B529D7FE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8286480" cy="1928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2071800" y="2928960"/>
            <a:ext cx="5214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предмета / объекта поис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деление существенных призна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области поиска – диапазона классификационных индек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Verdana"/>
              </a:rPr>
              <a:t>Подготовка к поиску </a:t>
            </a:r>
            <a:r>
              <a:rPr b="1" lang="ru-RU" sz="2000" spc="-1" strike="noStrike">
                <a:solidFill>
                  <a:srgbClr val="1f497d"/>
                </a:solidFill>
                <a:latin typeface="Verdan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56AE-4DDD-453C-AD95-E6DD2BBF5358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ренажер содержит установленный на платформе манекен с одной или двумя руками и одной или двумя ногами, средства для изменения положения рук и/или ног манекена, блок управления и регистрирующее устройство. Средства для изменения положения рук и/или ног снабжены исполнительными механизмами, подключенными к выходу блока управления, который соединен с регистрирующим устройство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Verdana"/>
              </a:rPr>
              <a:t>Примеры для классифицирован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DECD-A09F-48E7-93ED-13111CF7387D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назначен для тренировок спортсменов, занимающихся игрой с мяч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Verdana"/>
              </a:rPr>
              <a:t>тренажер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75F6-7F06-4F4C-B720-F822F6D3C6B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C:\Users\otd3202\Desktop\00000001-m.gif"/>
          <p:cNvPicPr/>
          <p:nvPr/>
        </p:nvPicPr>
        <p:blipFill>
          <a:blip r:embed="rId1"/>
          <a:stretch/>
        </p:blipFill>
        <p:spPr>
          <a:xfrm>
            <a:off x="1857240" y="2214720"/>
            <a:ext cx="4962600" cy="40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бор ключевых сло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бор синонимов ключевых сл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ск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вод ключевых слов на другие язы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бор синонимов ключевых слов на английск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бор подходящих мест в классификаци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Логически - последова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ор «сверху вниз» от раздела до подгруп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всех примечаний и отсылок  к каждому просматриваемому подразделению; желательно – и Определ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Verdana"/>
              </a:rPr>
              <a:t>Подготовка к поиску </a:t>
            </a:r>
            <a:r>
              <a:rPr b="1" lang="ru-RU" sz="2000" spc="-1" strike="noStrike">
                <a:solidFill>
                  <a:srgbClr val="1f497d"/>
                </a:solidFill>
                <a:latin typeface="Verdan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6EA2-2CBD-4DC5-BB09-F055019BCC1F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Инструменты поиска нужных рубрик МП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9C01-C5D5-4A23-B8AB-36F44B01FC8D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дбор подходящих мест в классифик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специальных инструм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ском язык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Алфавитно-предметный указатель (АПУ) на диске с МП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английском язы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страниц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C Publicat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иск рубрик по терминам (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Terms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Cross-reference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тексте МПК, отсылок и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Catch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ST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ует рубрики МПК, чаще всего проставленные на документах из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TENTSCOP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в которых встречается заданный термин (термин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IPCC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«категоризатор», «прогнозирование» рубрик по введенному тексту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Инструменты поиска рубрик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4F11-6AE8-4E70-B5D0-BE0A069C527D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786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Arial Narrow"/>
              </a:rPr>
              <a:t>Переход в электронную среду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иск в электронной сред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и поиска по текс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еполнота поиска по слов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т единства терминоло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ногоязычные фо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меры разной терминологии в одной тематик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дренирование подтоварной воды из резервуара»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лив из резервуара выделившейся из нефти воды;</a:t>
            </a:r>
            <a:br>
              <a:rPr sz="2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азделение нефти и воды в резервуаре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откачка воды из резервуар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4616-01AD-42EA-B126-A282D0E830C4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D196-01AF-4F05-888D-00AF3A31B5CB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Verdana"/>
              </a:rPr>
              <a:t>Результаты поиска рубрик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85723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Результат подготовки к поиск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9CBB-B750-4162-8391-C054347F8143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обраны ключевые слова и их синонимы на русском и английском (по крайней мере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обраны подходящие рубрики МП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смотрены все примечания, отсылки и Определения к отобранным рубрикам. В случае целесообразности просмотрены дополнительные рубрики МП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дены рубрики и для применения , и функциональ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а целесообразность использования при поиске сочетания нескольких рубр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не найдена прямая рубрика для сложного (комбинированного) устройства или способа, нужно просмотреть рубрики для их продук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чинаем с крупных баз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используем все термины и рубрики сразу в одном запро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одим поиск по одному варианту поисковых терминов  - это могут быть: ключевые слова, рубрики МПК, даты, страны, заявители или  и т.д. Запросы – по возможности коротк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ализируем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бираем из них другие ключевые слова и рубрики класс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четаем варианты ключевых слов с разными рубриками класс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ализируем результаты и т.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Verdana"/>
              </a:rPr>
              <a:t>Начало поис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F3C7-DE91-40B0-8243-3B8361093D94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оцесс поис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1DAB-E877-465F-9B76-FC7062E919FF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с поиска – постепенный:  используем различные сочетания ключевых слов, рубрик классификации и других поисковых термин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ли перебраны все отобранные варианты синонимов ключевых слов и рубрик, а искомые документы не выявлен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ытаемся по-новому сформулировать предмет поис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щем новые «концепции», синонимы и рубр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вторяем весь процесс снова с новыми термин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3AA2-4D9D-4CCD-86DB-F2A89831985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Примерная стратегия составления запроса</a:t>
            </a:r>
            <a:r>
              <a:rPr b="1" lang="en-US" sz="4000" spc="-1" strike="noStrike">
                <a:solidFill>
                  <a:srgbClr val="1f497d"/>
                </a:solidFill>
                <a:latin typeface="Verdana"/>
              </a:rPr>
              <a:t> –</a:t>
            </a: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(</a:t>
            </a:r>
            <a:r>
              <a:rPr b="1" lang="en-US" sz="3200" spc="-1" strike="noStrike">
                <a:solidFill>
                  <a:srgbClr val="1f497d"/>
                </a:solidFill>
                <a:latin typeface="Verdana"/>
              </a:rPr>
              <a:t>1</a:t>
            </a: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йти: лечение зрения с помощью лазер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английском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eatment, eyesight, la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pacene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езульта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м члены патентного семейства, исследуем терминологию в названиях/ рефер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аще всего – коррекция, а не лечени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рен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sion, eye, sight, eye-s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A363-37DF-46C5-99FC-4C15EC519CC9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Примерная стратегия составления запроса</a:t>
            </a:r>
            <a:r>
              <a:rPr b="1" lang="en-US" sz="4000" spc="-1" strike="noStrike">
                <a:solidFill>
                  <a:srgbClr val="1f497d"/>
                </a:solidFill>
                <a:latin typeface="Verdana"/>
              </a:rPr>
              <a:t> –</a:t>
            </a: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(</a:t>
            </a:r>
            <a:r>
              <a:rPr b="1" lang="en-US" sz="3600" spc="-1" strike="noStrike">
                <a:solidFill>
                  <a:srgbClr val="1f497d"/>
                </a:solidFill>
                <a:latin typeface="Verdana"/>
              </a:rPr>
              <a:t>2</a:t>
            </a: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овый запрос: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correc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d eye* and laser = 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нова исследуем тексты названий и реферато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оррекция пишется и как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correc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овый запрос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rrect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ye* OR vision OR sight) and laser = 668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Анализируя полученные документы, выявляем МПК, проставленные на документах и определяем наиболее подходящую рубрику. Проводим по ней поис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8F95-C79F-4A2F-B6B1-85184ADC8980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Примерная стратегия составления запроса</a:t>
            </a:r>
            <a:r>
              <a:rPr b="1" lang="en-US" sz="4000" spc="-1" strike="noStrike">
                <a:solidFill>
                  <a:srgbClr val="1f497d"/>
                </a:solidFill>
                <a:latin typeface="Verdana"/>
              </a:rPr>
              <a:t> –</a:t>
            </a:r>
            <a:r>
              <a:rPr b="1" lang="ru-RU" sz="40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(</a:t>
            </a:r>
            <a:r>
              <a:rPr b="1" lang="en-US" sz="3600" spc="-1" strike="noStrike">
                <a:solidFill>
                  <a:srgbClr val="1f497d"/>
                </a:solidFill>
                <a:latin typeface="Verdana"/>
              </a:rPr>
              <a:t>3</a:t>
            </a: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оиск по рубрике А6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9/0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- «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  <a:ea typeface="Arial"/>
              </a:rPr>
              <a:t>хирургия глаза с помощью лазера»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- дает 1817 докумен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ужаем запрос, добавляя найденные ранее термины, получаем 1017 до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альше запрос нужно сужать в зависимости от задачи, добавляя искомые призна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2F08-71A8-4D52-B4C4-CEAF02A380C2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C:\Users\otd3202\Desktop\244100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Arial Narrow"/>
              </a:rPr>
              <a:t>Примеры разной терминолог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ветоотверждение – фотоотверждение; фото- свето-полимеризация – модифицирование, радиационное формовани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мера – печь – реакт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зина в состоянии охрупчивания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трески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нешний слой – скин, покрыт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пленка) восстанавливаемая при нагревании – материал с памятью фор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ента – материал; клей – адгези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48E6-7F5A-4F45-9F31-9594B1CC7687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уть к общей классифик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6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о середины 20 века – несколько совершенно разных классификац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Международная (Европейская) патентная классификация опубликована 1 сентября 1968г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одписание Страсбургского соглашения  (197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Ст.1 Страсбургского Соглашения основан Специальный Союз по МП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 24 марта 1971г Международная (Европейская) патентная классификация считается первой редакцией МП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1AF0-C0F1-4563-A279-B7692F7D4BD7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Международные классифик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62 стран – членов Специального Союза по МПК - классифицирование патентных документов по МПК является обязательным. Используют МПК – более 100 стра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 января 2006г, после завершения длительной реформы, МПК стала полностью электронным продукт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Эталонная версия (официальная публикация) МПК находится на сайте ВОИС по адресу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eb2.wipo.int/classifications/ipc/ipcpub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вместимост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CL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с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P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завершена к 1991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японских классификаций на базе МП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СРС – Совместной патентной кооперации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operative patent classificatio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6F0D-5FC7-4816-BA2C-BA738B465B91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01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Arial Narrow"/>
              </a:rPr>
              <a:t>Действующие классификац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(1971г) - Страсбургское соглаше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7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убри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(1978г) – основана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C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90 000 рубри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-ter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(1984г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(«фасеточная»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80 000 рубри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РС (2013г) – основана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C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59 000 рубри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3D5E-8867-4C61-BC86-8081DC106D1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Сайт ВОИ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38AF-F58A-4F75-BE5F-3AF4D4CAC86B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03120" y="1428840"/>
            <a:ext cx="85377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МПК на русском язык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D3FE-E003-4A26-A280-BB00432675C7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928880" y="4643280"/>
            <a:ext cx="7215120" cy="1785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8929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7T07:09:43Z</dcterms:created>
  <dc:creator>Максимова В В</dc:creator>
  <dc:description/>
  <dc:language>en-US</dc:language>
  <cp:lastModifiedBy>otd3202</cp:lastModifiedBy>
  <dcterms:modified xsi:type="dcterms:W3CDTF">2019-03-18T07:51:19Z</dcterms:modified>
  <cp:revision>288</cp:revision>
  <dc:subject/>
  <dc:title>Слайд 1</dc:title>
</cp:coreProperties>
</file>